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00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000" y="93628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225-9B44-4056-AECB-525E880FC8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CC3-BE41-471E-AB3E-86183B7C7E1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9EC1-F4FE-452B-86BA-30C2D7947F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41D-61A4-4BE8-A528-0B24AD204C9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7796-D0AF-4007-867B-279AF20AC2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807-6FAE-489B-950D-6E64E71A27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15E7-12C6-4BD5-80A3-4ED2B36076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124B-85D1-403C-8B1D-45EE44212A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128D-0191-4162-8935-75CEA94327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2C0-4C2D-4AB3-B5F4-DB1B0E7433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03C-E34D-4AEE-8049-EB73619F1F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E475-49D2-4415-B806-94AB874065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410A-8D9F-4157-8357-809E2C620C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943-A6A1-4C59-AADF-24B3E32E2B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9724-6833-44F6-8E75-92ADD98B0F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3B8-13EC-49CE-A5A2-457C1D8349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A5D-41B0-4F78-AFC4-013D3CFBA5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5F76-1F08-46F7-B5AA-8733598C56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74A-0843-435B-B362-039783AD4C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1BE-3828-416C-B627-7BEA01CBF0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5D2C-0816-4F51-A9E6-5D0DF1CCBC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5FC-4277-4F3D-834D-F998933049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CB2A-B9A0-4249-A584-0EFD0BFF26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56B4-B066-4E83-B2B6-8213032F39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7911-7AF2-4F85-85AA-D340AA10B2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670-C7D2-4764-9D77-BE358D3735C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E742-88E3-4450-B4B7-07A7EA38C3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544B-2538-4BB9-96D1-102D6CBBA7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F11-1F36-4004-8D43-CBB3F568FD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DBF-E81A-4344-BCC9-9F8D00E70F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8BD-97CD-48B9-A7BC-B5D564134D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28D-9E9D-48DF-A944-50A5E9F71C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7C2A-178A-45A8-9759-CC3EE85BE4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7320" cy="3695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7520" y="4681080"/>
            <a:ext cx="5429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43360" y="936324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D826-AF2E-4656-8C62-FF42B5C6A3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E87-2446-4B85-8C66-C203AB34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B11-5CD4-4109-9749-662DFA47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553-69D3-40A7-9AC1-B293F8D8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0C9-DAE1-417B-8696-8DA9BC2D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970-6AB5-4BE8-AD0B-9046B07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EDD-AEA6-4C80-AADF-DC8D7F3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062-5378-4ABF-9BAD-BF69D88F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565-56AC-4188-A4B8-D0B8FC5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7F4-FD53-4DAC-BEBB-CE05BBC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9B8-1B2A-4DD6-953B-1149E21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544-657E-4314-838D-D2EFCB32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BD9-2B32-429E-8CD5-E42E6BF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B54-2F23-4BE2-90A6-0895E7D7821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0 Rectángulo"/>
          <p:cNvSpPr/>
          <p:nvPr/>
        </p:nvSpPr>
        <p:spPr>
          <a:xfrm>
            <a:off x="928800" y="200016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Estudio de Opinión Pu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alibri"/>
              </a:rPr>
              <a:t>Elecci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alibri"/>
              </a:rPr>
              <a:t>Presidenciales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CuadroTexto"/>
          <p:cNvSpPr/>
          <p:nvPr/>
        </p:nvSpPr>
        <p:spPr>
          <a:xfrm>
            <a:off x="6198480" y="714240"/>
            <a:ext cx="292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</a:rPr>
              <a:t>Las Bellotas 199 of. 71 – Providencia, Santiago –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</a:rPr>
              <a:t>Fono (56-2) 37247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</a:rPr>
              <a:t>info@cis-chile.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0" y="592920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467080" y="71280"/>
            <a:ext cx="4105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90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Y ahora si en una segunda vuelta presidencial pasaran los siguientes candidatos... ¿por cuál de ellos vota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7 Gráfico" descr=""/>
          <p:cNvPicPr/>
          <p:nvPr/>
        </p:nvPicPr>
        <p:blipFill>
          <a:blip r:embed="rId2"/>
          <a:stretch/>
        </p:blipFill>
        <p:spPr>
          <a:xfrm>
            <a:off x="1143000" y="1577880"/>
            <a:ext cx="7826400" cy="4851360"/>
          </a:xfrm>
          <a:prstGeom prst="rect">
            <a:avLst/>
          </a:prstGeom>
          <a:ln w="0">
            <a:noFill/>
          </a:ln>
        </p:spPr>
      </p:pic>
      <p:pic>
        <p:nvPicPr>
          <p:cNvPr id="92" name="11 Imagen" descr="Sebastian Piñera.jpg"/>
          <p:cNvPicPr/>
          <p:nvPr/>
        </p:nvPicPr>
        <p:blipFill>
          <a:blip r:embed="rId3"/>
          <a:stretch/>
        </p:blipFill>
        <p:spPr>
          <a:xfrm>
            <a:off x="214200" y="1928880"/>
            <a:ext cx="851040" cy="100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214200" y="3214800"/>
            <a:ext cx="85752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HENANO\AppData\Local\Temp\Facultad de Gobierno.JPG"/>
          <p:cNvPicPr/>
          <p:nvPr/>
        </p:nvPicPr>
        <p:blipFill>
          <a:blip r:embed="rId5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0 Rectángulo"/>
          <p:cNvSpPr/>
          <p:nvPr/>
        </p:nvSpPr>
        <p:spPr>
          <a:xfrm>
            <a:off x="928800" y="200016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Atributos de los Candidat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99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7 Gráfico" descr=""/>
          <p:cNvPicPr/>
          <p:nvPr/>
        </p:nvPicPr>
        <p:blipFill>
          <a:blip r:embed="rId2"/>
          <a:stretch/>
        </p:blipFill>
        <p:spPr>
          <a:xfrm>
            <a:off x="493560" y="1646280"/>
            <a:ext cx="8491680" cy="521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rentaría mejor la crisis económic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07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ía más cercano a sus problema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 mejor un espíritu de cambio y renovación de la polític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23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aría más confianz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31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aría mejor los conflictos socia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39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bernará pensando más en la clase media y los más pobr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47" name="9 Rectángulo"/>
          <p:cNvSpPr/>
          <p:nvPr/>
        </p:nvSpPr>
        <p:spPr>
          <a:xfrm>
            <a:off x="2286000" y="7128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¿Cuál de los siguientes candidatos cree usted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379520"/>
          <a:ext cx="9144000" cy="284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ía llegar más rostros nuevos a un posible futuro Gobiern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11 Imagen" descr="Sebastian Piñera.jpg"/>
          <p:cNvPicPr/>
          <p:nvPr/>
        </p:nvPicPr>
        <p:blipFill>
          <a:blip r:embed="rId5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6"/>
          <a:srcRect l="28502" t="0" r="61751" b="38931"/>
          <a:stretch/>
        </p:blipFill>
        <p:spPr>
          <a:xfrm>
            <a:off x="214200" y="4000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10 Rectángulo"/>
          <p:cNvSpPr/>
          <p:nvPr/>
        </p:nvSpPr>
        <p:spPr>
          <a:xfrm>
            <a:off x="928800" y="192888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Calibri"/>
              </a:rPr>
              <a:t>Impac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Calibri"/>
              </a:rPr>
              <a:t>Marcos Enríquez-Ominam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CuadroTexto"/>
          <p:cNvSpPr/>
          <p:nvPr/>
        </p:nvSpPr>
        <p:spPr>
          <a:xfrm>
            <a:off x="0" y="171468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Berlin Sans FB"/>
              </a:rPr>
              <a:t>Técnica: encuesta telefónica, con encuestadoras en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Berlin Sans FB"/>
              </a:rPr>
              <a:t>Muestra de 1.207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votantes inscritos en los registros electores de su comuna, </a:t>
            </a:r>
            <a:r>
              <a:rPr b="0" lang="es-ES_tradnl" sz="2000" spc="-1" strike="noStrike">
                <a:solidFill>
                  <a:srgbClr val="000000"/>
                </a:solidFill>
                <a:latin typeface="Berlin Sans FB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las 66 comunas más grandes del país, segmentada según el peso electoral de cada comuna, y que representa el 68% del electo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ncuesta aleatoria en todos sus nive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Margen de error : 2,8 % para un nivel de confianza del 9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Fecha de entrevistas: jueves 14 de mayo de 2009, entre las 17:00 y las 22:12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CHENANO\AppData\Local\Temp\Facultad de Gobierno.JPG"/>
          <p:cNvPicPr/>
          <p:nvPr/>
        </p:nvPicPr>
        <p:blipFill>
          <a:blip r:embed="rId2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58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¿A quién cree usted que perjudica más la irrupción de Marco Enríquez-Ominami en la carrera presiden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pic>
        <p:nvPicPr>
          <p:cNvPr id="161" name="11 Imagen" descr="Sebastian Piñera.jpg"/>
          <p:cNvPicPr/>
          <p:nvPr/>
        </p:nvPicPr>
        <p:blipFill>
          <a:blip r:embed="rId4"/>
          <a:stretch/>
        </p:blipFill>
        <p:spPr>
          <a:xfrm>
            <a:off x="214200" y="1928880"/>
            <a:ext cx="1000080" cy="83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5"/>
          <a:srcRect l="28502" t="0" r="61751" b="38931"/>
          <a:stretch/>
        </p:blipFill>
        <p:spPr>
          <a:xfrm>
            <a:off x="214200" y="3429000"/>
            <a:ext cx="1000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64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¿Cree usted que debiera haber una nueva primaria en la Concertación entre Frei y Enríquez-Omin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:\Users\CHENANO\AppData\Local\Temp\Facultad de Gobierno.JPG"/>
          <p:cNvPicPr/>
          <p:nvPr/>
        </p:nvPicPr>
        <p:blipFill>
          <a:blip r:embed="rId2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pic>
        <p:nvPicPr>
          <p:cNvPr id="166" name="16 Gráfico" descr=""/>
          <p:cNvPicPr/>
          <p:nvPr/>
        </p:nvPicPr>
        <p:blipFill>
          <a:blip r:embed="rId3"/>
          <a:stretch/>
        </p:blipFill>
        <p:spPr>
          <a:xfrm>
            <a:off x="571680" y="1428840"/>
            <a:ext cx="7858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68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 se realizara esta primaria abierta de la Concertación entre Eduardo Frei y Marco Enríquez Ominami, ¿por cuál de ellos votaría u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alibri"/>
              </a:rPr>
              <a:t>(Submuestra Votantes Concert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4"/>
          <a:stretch/>
        </p:blipFill>
        <p:spPr>
          <a:xfrm>
            <a:off x="214200" y="3500280"/>
            <a:ext cx="100800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5"/>
          <a:srcRect l="28502" t="0" r="61751" b="38931"/>
          <a:stretch/>
        </p:blipFill>
        <p:spPr>
          <a:xfrm>
            <a:off x="214200" y="1714680"/>
            <a:ext cx="100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10 Rectángulo"/>
          <p:cNvSpPr/>
          <p:nvPr/>
        </p:nvSpPr>
        <p:spPr>
          <a:xfrm>
            <a:off x="928800" y="192888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Impacto de la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Crisis Económ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7 Gráfico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7858440" cy="4003560"/>
          </a:xfrm>
          <a:prstGeom prst="rect">
            <a:avLst/>
          </a:prstGeom>
          <a:ln w="0">
            <a:noFill/>
          </a:ln>
        </p:spPr>
      </p:pic>
      <p:sp>
        <p:nvSpPr>
          <p:cNvPr id="178" name="10 Rectángulo"/>
          <p:cNvSpPr/>
          <p:nvPr/>
        </p:nvSpPr>
        <p:spPr>
          <a:xfrm>
            <a:off x="2286000" y="16992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¿Usted o alguien de su familia se ha visto afectado por la actual crisis econó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81" name="8 Rectángulo"/>
          <p:cNvSpPr/>
          <p:nvPr/>
        </p:nvSpPr>
        <p:spPr>
          <a:xfrm>
            <a:off x="2214720" y="28584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</a:rPr>
              <a:t>¿De qué for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10 Gráfico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762680" cy="3571920"/>
          </a:xfrm>
          <a:prstGeom prst="rect">
            <a:avLst/>
          </a:prstGeom>
          <a:ln w="0">
            <a:noFill/>
          </a:ln>
        </p:spPr>
      </p:pic>
      <p:sp>
        <p:nvSpPr>
          <p:cNvPr id="183" name="12 Flecha abajo"/>
          <p:cNvSpPr/>
          <p:nvPr/>
        </p:nvSpPr>
        <p:spPr>
          <a:xfrm rot="19231800">
            <a:off x="5859360" y="4313160"/>
            <a:ext cx="420840" cy="7938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3" descr=""/>
          <p:cNvPicPr/>
          <p:nvPr/>
        </p:nvPicPr>
        <p:blipFill>
          <a:blip r:embed="rId3"/>
          <a:stretch/>
        </p:blipFill>
        <p:spPr>
          <a:xfrm>
            <a:off x="5572080" y="428616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sp>
        <p:nvSpPr>
          <p:cNvPr id="186" name="12 CuadroTexto"/>
          <p:cNvSpPr/>
          <p:nvPr/>
        </p:nvSpPr>
        <p:spPr>
          <a:xfrm>
            <a:off x="1724760" y="6500880"/>
            <a:ext cx="25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ubMuestra: % Contestó SI en pregunta anteri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88" name="8 Rectángulo"/>
          <p:cNvSpPr/>
          <p:nvPr/>
        </p:nvSpPr>
        <p:spPr>
          <a:xfrm>
            <a:off x="2286000" y="14292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¿Cuánto cree usted que va a durar esta crisis y su impacto en el empleo y en el consu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10 Gráfico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7762680" cy="406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92" name="8 Rectángulo"/>
          <p:cNvSpPr/>
          <p:nvPr/>
        </p:nvSpPr>
        <p:spPr>
          <a:xfrm>
            <a:off x="2286000" y="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Pensando en el gobierno de la presidenta Bachelet, ¿Ud. aprueba o desaprueba su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10 Gráfico" descr=""/>
          <p:cNvPicPr/>
          <p:nvPr/>
        </p:nvPicPr>
        <p:blipFill>
          <a:blip r:embed="rId2"/>
          <a:stretch/>
        </p:blipFill>
        <p:spPr>
          <a:xfrm>
            <a:off x="-500040" y="1714680"/>
            <a:ext cx="8858160" cy="4929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7786800" y="785880"/>
            <a:ext cx="1057320" cy="1123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Users\CHENANO\AppData\Local\Temp\Facultad de Gobierno.JPG"/>
          <p:cNvPicPr/>
          <p:nvPr/>
        </p:nvPicPr>
        <p:blipFill>
          <a:blip r:embed="rId4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197" name="5 Rectángulo"/>
          <p:cNvSpPr/>
          <p:nvPr/>
        </p:nvSpPr>
        <p:spPr>
          <a:xfrm>
            <a:off x="2286000" y="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¿Cómo evalúa usted el trabajo de Andrés Velasco como Ministro de Hacienda en esta crisis económica? Evalúe de 1 a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7 Tabla" descr=""/>
          <p:cNvPicPr/>
          <p:nvPr/>
        </p:nvPicPr>
        <p:blipFill>
          <a:blip r:embed="rId2"/>
          <a:stretch/>
        </p:blipFill>
        <p:spPr>
          <a:xfrm>
            <a:off x="1139760" y="1285920"/>
            <a:ext cx="7364520" cy="2706480"/>
          </a:xfrm>
          <a:prstGeom prst="rect">
            <a:avLst/>
          </a:prstGeom>
          <a:ln w="0">
            <a:noFill/>
          </a:ln>
        </p:spPr>
      </p:pic>
      <p:pic>
        <p:nvPicPr>
          <p:cNvPr id="199" name="10 Gráfico" descr=""/>
          <p:cNvPicPr/>
          <p:nvPr/>
        </p:nvPicPr>
        <p:blipFill>
          <a:blip r:embed="rId3"/>
          <a:stretch/>
        </p:blipFill>
        <p:spPr>
          <a:xfrm>
            <a:off x="-500040" y="4286160"/>
            <a:ext cx="921528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119160" y="2071800"/>
            <a:ext cx="91908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CHENANO\AppData\Local\Temp\Facultad de Gobierno.JPG"/>
          <p:cNvPicPr/>
          <p:nvPr/>
        </p:nvPicPr>
        <p:blipFill>
          <a:blip r:embed="rId5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8 Rectángulo"/>
          <p:cNvSpPr/>
          <p:nvPr/>
        </p:nvSpPr>
        <p:spPr>
          <a:xfrm>
            <a:off x="2286000" y="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Pensando en la próxima elección presidencial, y sin importar a qué candidato apoya usted, ¿cuál de los siguientes mensajes de campaña lo identifica mejor y cree usted lo decidiría a apoyar al candidato que lo promue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10 Gráfico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835812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0 Rectángulo"/>
          <p:cNvSpPr/>
          <p:nvPr/>
        </p:nvSpPr>
        <p:spPr>
          <a:xfrm>
            <a:off x="928800" y="200016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alibri"/>
              </a:rPr>
              <a:t>Estudio de Opinión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alibri"/>
              </a:rPr>
              <a:t>Elecciones Presidenciale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Presentado por Sex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10 Rectángulo"/>
          <p:cNvSpPr/>
          <p:nvPr/>
        </p:nvSpPr>
        <p:spPr>
          <a:xfrm>
            <a:off x="928800" y="200016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Figuras Polít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de un Futuro Gobier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210" name="9 Rectángulo"/>
          <p:cNvSpPr/>
          <p:nvPr/>
        </p:nvSpPr>
        <p:spPr>
          <a:xfrm>
            <a:off x="2143080" y="7128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¿Quiénes cree Ud. que serían las figuras más importantes para un futuro Gobierno de Sebastian Piñe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7 Gráfico" descr=""/>
          <p:cNvPicPr/>
          <p:nvPr/>
        </p:nvPicPr>
        <p:blipFill>
          <a:blip r:embed="rId2"/>
          <a:stretch/>
        </p:blipFill>
        <p:spPr>
          <a:xfrm>
            <a:off x="714240" y="1224000"/>
            <a:ext cx="8255160" cy="5634000"/>
          </a:xfrm>
          <a:prstGeom prst="rect">
            <a:avLst/>
          </a:prstGeom>
          <a:ln w="0">
            <a:noFill/>
          </a:ln>
        </p:spPr>
      </p:pic>
      <p:sp>
        <p:nvSpPr>
          <p:cNvPr id="212" name="18 CuadroTexto"/>
          <p:cNvSpPr/>
          <p:nvPr/>
        </p:nvSpPr>
        <p:spPr>
          <a:xfrm>
            <a:off x="5072760" y="6429240"/>
            <a:ext cx="18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enciones Espontáne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215" name="9 Rectángulo"/>
          <p:cNvSpPr/>
          <p:nvPr/>
        </p:nvSpPr>
        <p:spPr>
          <a:xfrm>
            <a:off x="1692360" y="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¿Quiénes cree Ud. que serían las figuras más importantes para un futuro Gobierno de Eduardo Fre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 Gráfico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8601120" cy="5153040"/>
          </a:xfrm>
          <a:prstGeom prst="rect">
            <a:avLst/>
          </a:prstGeom>
          <a:ln w="0">
            <a:noFill/>
          </a:ln>
        </p:spPr>
      </p:pic>
      <p:sp>
        <p:nvSpPr>
          <p:cNvPr id="217" name="18 CuadroTexto"/>
          <p:cNvSpPr/>
          <p:nvPr/>
        </p:nvSpPr>
        <p:spPr>
          <a:xfrm>
            <a:off x="5072760" y="6429240"/>
            <a:ext cx="18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enciones Espontáne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9 CuadroTexto"/>
          <p:cNvSpPr/>
          <p:nvPr/>
        </p:nvSpPr>
        <p:spPr>
          <a:xfrm>
            <a:off x="6198480" y="714240"/>
            <a:ext cx="292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</a:rPr>
              <a:t>Las Bellotas 199 of. 71 – Providencia, Santiago –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</a:rPr>
              <a:t>Fono (56-2) 37247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</a:rPr>
              <a:t>info@cis-chile.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 Subtítulo"/>
          <p:cNvSpPr/>
          <p:nvPr/>
        </p:nvSpPr>
        <p:spPr>
          <a:xfrm>
            <a:off x="0" y="50004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Calibri"/>
              </a:rPr>
              <a:t>Estudio de Opinión Pub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Calibri"/>
              </a:rPr>
              <a:t>Elecciones Presidenciales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14200" y="1857240"/>
            <a:ext cx="8715600" cy="3143520"/>
          </a:xfrm>
          <a:prstGeom prst="rect">
            <a:avLst/>
          </a:prstGeom>
          <a:ln w="0">
            <a:noFill/>
          </a:ln>
        </p:spPr>
      </p:pic>
      <p:sp>
        <p:nvSpPr>
          <p:cNvPr id="222" name="7 Rectángulo"/>
          <p:cNvSpPr/>
          <p:nvPr/>
        </p:nvSpPr>
        <p:spPr>
          <a:xfrm>
            <a:off x="0" y="5857920"/>
            <a:ext cx="9144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Arial"/>
              </a:rPr>
              <a:t>Estudio Telefón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Arial"/>
              </a:rPr>
              <a:t>Mayo d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0 Rectángulo"/>
          <p:cNvSpPr/>
          <p:nvPr/>
        </p:nvSpPr>
        <p:spPr>
          <a:xfrm>
            <a:off x="928800" y="200016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Primera Vuel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Presidenc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ensando en una primera vuelta presidencial, ¿por cuál de los siguientes candidatos votaría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 Gráfico" descr=""/>
          <p:cNvPicPr/>
          <p:nvPr/>
        </p:nvPicPr>
        <p:blipFill>
          <a:blip r:embed="rId2"/>
          <a:stretch/>
        </p:blipFill>
        <p:spPr>
          <a:xfrm>
            <a:off x="500040" y="1650960"/>
            <a:ext cx="8480520" cy="5207040"/>
          </a:xfrm>
          <a:prstGeom prst="rect">
            <a:avLst/>
          </a:prstGeom>
          <a:ln w="0">
            <a:noFill/>
          </a:ln>
        </p:spPr>
      </p:pic>
      <p:grpSp>
        <p:nvGrpSpPr>
          <p:cNvPr id="64" name="13 Grupo"/>
          <p:cNvGrpSpPr/>
          <p:nvPr/>
        </p:nvGrpSpPr>
        <p:grpSpPr>
          <a:xfrm>
            <a:off x="357120" y="1928880"/>
            <a:ext cx="644760" cy="3286080"/>
            <a:chOff x="357120" y="1928880"/>
            <a:chExt cx="644760" cy="3286080"/>
          </a:xfrm>
        </p:grpSpPr>
        <p:pic>
          <p:nvPicPr>
            <p:cNvPr id="65" name="14 Imagen" descr="Alejandro Navarro.jpg"/>
            <p:cNvPicPr/>
            <p:nvPr/>
          </p:nvPicPr>
          <p:blipFill>
            <a:blip r:embed="rId3"/>
            <a:stretch/>
          </p:blipFill>
          <p:spPr>
            <a:xfrm>
              <a:off x="358920" y="3571920"/>
              <a:ext cx="642960" cy="55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15 Imagen" descr="Sebastian Piñera.jpg"/>
            <p:cNvPicPr/>
            <p:nvPr/>
          </p:nvPicPr>
          <p:blipFill>
            <a:blip r:embed="rId4"/>
            <a:stretch/>
          </p:blipFill>
          <p:spPr>
            <a:xfrm>
              <a:off x="358920" y="3024360"/>
              <a:ext cx="642960" cy="55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"/>
            <p:cNvPicPr/>
            <p:nvPr/>
          </p:nvPicPr>
          <p:blipFill>
            <a:blip r:embed="rId5"/>
            <a:stretch/>
          </p:blipFill>
          <p:spPr>
            <a:xfrm>
              <a:off x="358920" y="1928880"/>
              <a:ext cx="642960" cy="55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"/>
            <p:cNvPicPr/>
            <p:nvPr/>
          </p:nvPicPr>
          <p:blipFill>
            <a:blip r:embed="rId6"/>
            <a:srcRect l="28502" t="0" r="61751" b="38931"/>
            <a:stretch/>
          </p:blipFill>
          <p:spPr>
            <a:xfrm>
              <a:off x="358920" y="2476440"/>
              <a:ext cx="642960" cy="55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"/>
            <p:cNvPicPr/>
            <p:nvPr/>
          </p:nvPicPr>
          <p:blipFill>
            <a:blip r:embed="rId7"/>
            <a:stretch/>
          </p:blipFill>
          <p:spPr>
            <a:xfrm>
              <a:off x="357120" y="4119840"/>
              <a:ext cx="6447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" descr=""/>
            <p:cNvPicPr/>
            <p:nvPr/>
          </p:nvPicPr>
          <p:blipFill>
            <a:blip r:embed="rId8"/>
            <a:stretch/>
          </p:blipFill>
          <p:spPr>
            <a:xfrm>
              <a:off x="358920" y="4667400"/>
              <a:ext cx="642960" cy="54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Picture 5" descr="C:\Users\CHENANO\AppData\Local\Temp\Facultad de Gobierno.JPG"/>
          <p:cNvPicPr/>
          <p:nvPr/>
        </p:nvPicPr>
        <p:blipFill>
          <a:blip r:embed="rId9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73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¿Qué tan feliz se sentiría usted de resultar electo el candidato por el cual acaba de vo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CHENANO\AppData\Local\Temp\Facultad de Gobierno.JPG"/>
          <p:cNvPicPr/>
          <p:nvPr/>
        </p:nvPicPr>
        <p:blipFill>
          <a:blip r:embed="rId2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16 Gráfico" descr=""/>
          <p:cNvPicPr/>
          <p:nvPr/>
        </p:nvPicPr>
        <p:blipFill>
          <a:blip r:embed="rId3"/>
          <a:stretch/>
        </p:blipFill>
        <p:spPr>
          <a:xfrm>
            <a:off x="571680" y="1428840"/>
            <a:ext cx="7858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77" name="9 Rectángulo"/>
          <p:cNvSpPr/>
          <p:nvPr/>
        </p:nvSpPr>
        <p:spPr>
          <a:xfrm>
            <a:off x="2286000" y="16992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¿Cuál diría usted es la razón principal por la que vota por su candidato actual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7 Gráfico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480520" cy="5500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CHENANO\AppData\Local\Temp\Facultad de Gobierno.JPG"/>
          <p:cNvPicPr/>
          <p:nvPr/>
        </p:nvPicPr>
        <p:blipFill>
          <a:blip r:embed="rId3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592884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Estudio Telefónic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98989"/>
                </a:solidFill>
                <a:latin typeface="Calibri"/>
              </a:rPr>
              <a:t>Mayo de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10 Rectángulo"/>
          <p:cNvSpPr/>
          <p:nvPr/>
        </p:nvSpPr>
        <p:spPr>
          <a:xfrm>
            <a:off x="928800" y="2000160"/>
            <a:ext cx="7286400" cy="2786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Segunda Vuel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alibri"/>
              </a:rPr>
              <a:t>Presidenc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Users\CHENANO\AppData\Local\Temp\Facultad de Gobierno.JPG"/>
          <p:cNvPicPr/>
          <p:nvPr/>
        </p:nvPicPr>
        <p:blipFill>
          <a:blip r:embed="rId1"/>
          <a:stretch/>
        </p:blipFill>
        <p:spPr>
          <a:xfrm>
            <a:off x="2643120" y="0"/>
            <a:ext cx="3571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1 Grupo" descr=""/>
          <p:cNvPicPr/>
          <p:nvPr/>
        </p:nvPicPr>
        <p:blipFill>
          <a:blip r:embed="rId1"/>
          <a:stretch/>
        </p:blipFill>
        <p:spPr>
          <a:xfrm>
            <a:off x="554040" y="6660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84" name="9 Rectángulo"/>
          <p:cNvSpPr/>
          <p:nvPr/>
        </p:nvSpPr>
        <p:spPr>
          <a:xfrm>
            <a:off x="2286000" y="712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Ahora, pensando en una segunda vuelta presidencial, ¿por cuál de los siguientes candidatos votaría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 Gráfico" descr=""/>
          <p:cNvPicPr/>
          <p:nvPr/>
        </p:nvPicPr>
        <p:blipFill>
          <a:blip r:embed="rId2"/>
          <a:stretch/>
        </p:blipFill>
        <p:spPr>
          <a:xfrm>
            <a:off x="928800" y="1577880"/>
            <a:ext cx="8040600" cy="4391280"/>
          </a:xfrm>
          <a:prstGeom prst="rect">
            <a:avLst/>
          </a:prstGeom>
          <a:ln w="0">
            <a:noFill/>
          </a:ln>
        </p:spPr>
      </p:pic>
      <p:pic>
        <p:nvPicPr>
          <p:cNvPr id="86" name="11 Imagen" descr="Sebastian Piñera.jpg"/>
          <p:cNvPicPr/>
          <p:nvPr/>
        </p:nvPicPr>
        <p:blipFill>
          <a:blip r:embed="rId3"/>
          <a:stretch/>
        </p:blipFill>
        <p:spPr>
          <a:xfrm>
            <a:off x="214200" y="1928880"/>
            <a:ext cx="851040" cy="100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rcRect l="28502" t="0" r="61751" b="38931"/>
          <a:stretch/>
        </p:blipFill>
        <p:spPr>
          <a:xfrm>
            <a:off x="285840" y="3214800"/>
            <a:ext cx="817560" cy="90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CHENANO\AppData\Local\Temp\Facultad de Gobierno.JPG"/>
          <p:cNvPicPr/>
          <p:nvPr/>
        </p:nvPicPr>
        <p:blipFill>
          <a:blip r:embed="rId5"/>
          <a:stretch/>
        </p:blipFill>
        <p:spPr>
          <a:xfrm>
            <a:off x="642960" y="714240"/>
            <a:ext cx="1201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22:31Z</dcterms:created>
  <dc:creator>BenchMark.Ltda</dc:creator>
  <dc:description/>
  <dc:language>en-US</dc:language>
  <cp:lastModifiedBy>Universidad del Desarrollo</cp:lastModifiedBy>
  <dcterms:modified xsi:type="dcterms:W3CDTF">2009-05-15T18:06:46Z</dcterms:modified>
  <cp:revision>172</cp:revision>
  <dc:subject>Alcaldes</dc:subject>
  <dc:title>Estudio de Opinion Publica Los Lagos Marzo 2008</dc:title>
</cp:coreProperties>
</file>